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B8F-F62C-4D62-8FE9-FC8DB6DB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E2F-AE61-4406-B9DC-E2651C3D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DFE-1DDA-406F-B3E9-D3759AA1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C3A-DC96-4BF7-B0B5-4A28214E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4541-1C60-4573-A6EE-D01AD1FA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0377-0A26-4285-B1AC-4082EC28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73DF-2FA9-4763-A623-ED73F41E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3B86-4AFA-4D28-930C-76930652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22E4-820B-4E0B-B644-DC477938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8C14-A174-465F-8BA6-412E4C23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059B-864F-4AC6-A92C-590A467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99E-FBFB-41A9-B661-0CDD498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93D1-C012-4A0B-A76C-5AA3E5F1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CD63-098E-45F8-B139-3A8D2326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618F-7A73-437D-9424-56E95642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0497-37F7-4665-81F1-285E407B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F9C7-910B-40EE-AC27-AA77F904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982-6EAC-4AFF-8F86-71DAFD29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717-A041-4584-B0D2-75CED0D1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280-7A7E-4409-B0CC-1D02E1F5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578-DE7C-4C5B-8326-97FEFEEC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FA5-CE17-4FA0-A803-B1922922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45A-973C-4B0C-92D2-C89AFB5D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A34-CFDE-4C28-A224-D9A389BD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E549-4A5D-456F-B128-4079000AB3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383B-2382-4F80-8CE7-5635529A0D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Technolog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PS T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ites.fcps.org/t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Pixie (Use on Promethean Board)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Picture 3" descr="pixie1"/>
          <p:cNvPicPr/>
          <p:nvPr/>
        </p:nvPicPr>
        <p:blipFill>
          <a:blip r:embed="rId1"/>
          <a:stretch/>
        </p:blipFill>
        <p:spPr>
          <a:xfrm>
            <a:off x="228600" y="1295280"/>
            <a:ext cx="723888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Pixie (additional features)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5800" y="2057400"/>
            <a:ext cx="79246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xt to Spee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rd your vo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slidesh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nt in  multiple form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5716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-books, trading cards, et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5716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Discovery Streaming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304920" y="1905120"/>
            <a:ext cx="5105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videos, clip art, images, sound effects, less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z Builder to create assessments for student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At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eacher has a license – talk to your media specialist to get the code to sign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3508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"/>
          <p:cNvPicPr/>
          <p:nvPr/>
        </p:nvPicPr>
        <p:blipFill>
          <a:blip r:embed="rId1"/>
          <a:srcRect l="0" t="0" r="45835" b="0"/>
          <a:stretch/>
        </p:blipFill>
        <p:spPr>
          <a:xfrm>
            <a:off x="228600" y="1828800"/>
            <a:ext cx="346716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ead Pleas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 rot="10800000">
            <a:off x="685800" y="4571640"/>
            <a:ext cx="380880" cy="1523880"/>
          </a:xfrm>
          <a:prstGeom prst="upArrow">
            <a:avLst>
              <a:gd name="adj1" fmla="val 50000"/>
              <a:gd name="adj2" fmla="val 100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2057400" y="4038480"/>
            <a:ext cx="380880" cy="1524240"/>
          </a:xfrm>
          <a:prstGeom prst="upArrow">
            <a:avLst>
              <a:gd name="adj1" fmla="val 50000"/>
              <a:gd name="adj2" fmla="val 1000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" descr="readplease"/>
          <p:cNvPicPr/>
          <p:nvPr/>
        </p:nvPicPr>
        <p:blipFill>
          <a:blip r:embed="rId2"/>
          <a:stretch/>
        </p:blipFill>
        <p:spPr>
          <a:xfrm>
            <a:off x="4191120" y="1523880"/>
            <a:ext cx="4543200" cy="5067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udac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0" t="0" r="47130" b="35250"/>
          <a:stretch/>
        </p:blipFill>
        <p:spPr>
          <a:xfrm>
            <a:off x="0" y="1886040"/>
            <a:ext cx="3505320" cy="321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" name="AutoShape 6"/>
          <p:cNvSpPr/>
          <p:nvPr/>
        </p:nvSpPr>
        <p:spPr>
          <a:xfrm>
            <a:off x="380880" y="4038480"/>
            <a:ext cx="381240" cy="1524240"/>
          </a:xfrm>
          <a:prstGeom prst="upArrow">
            <a:avLst>
              <a:gd name="adj1" fmla="val 50000"/>
              <a:gd name="adj2" fmla="val 9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828800" y="3200400"/>
            <a:ext cx="380880" cy="1523880"/>
          </a:xfrm>
          <a:prstGeom prst="upArrow">
            <a:avLst>
              <a:gd name="adj1" fmla="val 50000"/>
              <a:gd name="adj2" fmla="val 100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audacity"/>
          <p:cNvPicPr/>
          <p:nvPr/>
        </p:nvPicPr>
        <p:blipFill>
          <a:blip r:embed="rId2"/>
          <a:stretch/>
        </p:blipFill>
        <p:spPr>
          <a:xfrm>
            <a:off x="3809880" y="1828800"/>
            <a:ext cx="4953240" cy="41990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/>
          <p:cNvSpPr/>
          <p:nvPr/>
        </p:nvSpPr>
        <p:spPr>
          <a:xfrm>
            <a:off x="838080" y="5638680"/>
            <a:ext cx="2210040" cy="838440"/>
          </a:xfrm>
          <a:custGeom>
            <a:avLst/>
            <a:gdLst>
              <a:gd name="textAreaLeft" fmla="*/ 54360 w 2210040"/>
              <a:gd name="textAreaRight" fmla="*/ 2155680 w 2210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6920" h="21600">
                <a:moveTo>
                  <a:pt x="0" y="0"/>
                </a:moveTo>
                <a:lnTo>
                  <a:pt x="56920" y="0"/>
                </a:lnTo>
                <a:lnTo>
                  <a:pt x="56920" y="21600"/>
                </a:lnTo>
                <a:lnTo>
                  <a:pt x="0" y="21600"/>
                </a:lnTo>
                <a:close/>
              </a:path>
              <a:path fill="lightenLess" w="56920" h="21600">
                <a:moveTo>
                  <a:pt x="0" y="0"/>
                </a:moveTo>
                <a:lnTo>
                  <a:pt x="56920" y="0"/>
                </a:lnTo>
                <a:lnTo>
                  <a:pt x="55520" y="1400"/>
                </a:lnTo>
                <a:lnTo>
                  <a:pt x="1400" y="1400"/>
                </a:lnTo>
                <a:close/>
              </a:path>
              <a:path fill="darken" w="56920" h="21600">
                <a:moveTo>
                  <a:pt x="56920" y="0"/>
                </a:moveTo>
                <a:lnTo>
                  <a:pt x="56920" y="21600"/>
                </a:lnTo>
                <a:lnTo>
                  <a:pt x="55520" y="20200"/>
                </a:lnTo>
                <a:lnTo>
                  <a:pt x="55520" y="1400"/>
                </a:lnTo>
                <a:close/>
              </a:path>
              <a:path fill="darkenLess" w="56920" h="21600">
                <a:moveTo>
                  <a:pt x="56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20" y="20200"/>
                </a:lnTo>
                <a:close/>
              </a:path>
              <a:path fill="lighten" w="56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hoto Story – digital pic slidesho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47130" b="35250"/>
          <a:stretch/>
        </p:blipFill>
        <p:spPr>
          <a:xfrm>
            <a:off x="0" y="1886040"/>
            <a:ext cx="3505320" cy="321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6" name="AutoShape 5"/>
          <p:cNvSpPr/>
          <p:nvPr/>
        </p:nvSpPr>
        <p:spPr>
          <a:xfrm>
            <a:off x="380880" y="4038480"/>
            <a:ext cx="381240" cy="1524240"/>
          </a:xfrm>
          <a:prstGeom prst="upArrow">
            <a:avLst>
              <a:gd name="adj1" fmla="val 50000"/>
              <a:gd name="adj2" fmla="val 9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828800" y="3581280"/>
            <a:ext cx="380880" cy="1524240"/>
          </a:xfrm>
          <a:prstGeom prst="upArrow">
            <a:avLst>
              <a:gd name="adj1" fmla="val 50000"/>
              <a:gd name="adj2" fmla="val 1000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9" descr="title photostory"/>
          <p:cNvPicPr/>
          <p:nvPr/>
        </p:nvPicPr>
        <p:blipFill>
          <a:blip r:embed="rId2"/>
          <a:stretch/>
        </p:blipFill>
        <p:spPr>
          <a:xfrm>
            <a:off x="3809880" y="1905120"/>
            <a:ext cx="4619880" cy="3487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9" name="TextBox 1"/>
          <p:cNvSpPr/>
          <p:nvPr/>
        </p:nvSpPr>
        <p:spPr>
          <a:xfrm>
            <a:off x="990720" y="5791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tudents can record their voices over pictures instead of ty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Inspiration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(Grades 6-12)</a:t>
            </a:r>
            <a:br>
              <a:rPr sz="4000"/>
            </a:br>
            <a:r>
              <a:rPr b="0" lang="en-US" sz="2400" spc="-1" strike="noStrike">
                <a:solidFill>
                  <a:srgbClr val="420000"/>
                </a:solidFill>
                <a:latin typeface="Times New Roman"/>
              </a:rPr>
              <a:t>Brainstorm with RapidFire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1" name="Picture 4" descr="inspiration desert"/>
          <p:cNvPicPr/>
          <p:nvPr/>
        </p:nvPicPr>
        <p:blipFill>
          <a:blip r:embed="rId1"/>
          <a:stretch/>
        </p:blipFill>
        <p:spPr>
          <a:xfrm>
            <a:off x="1295280" y="1981080"/>
            <a:ext cx="56390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Kidspiration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(K-8 in schools)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3" name="Picture 5" descr="kidspiration2"/>
          <p:cNvPicPr/>
          <p:nvPr/>
        </p:nvPicPr>
        <p:blipFill>
          <a:blip r:embed="rId1"/>
          <a:stretch/>
        </p:blipFill>
        <p:spPr>
          <a:xfrm>
            <a:off x="609480" y="1227240"/>
            <a:ext cx="7696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Kidspiration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5" name="Picture 4" descr="kidsir4"/>
          <p:cNvPicPr/>
          <p:nvPr/>
        </p:nvPicPr>
        <p:blipFill>
          <a:blip r:embed="rId1"/>
          <a:stretch/>
        </p:blipFill>
        <p:spPr>
          <a:xfrm>
            <a:off x="457200" y="1320840"/>
            <a:ext cx="75438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Kidspiration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04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Kidspiration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457200" y="19051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lking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xt-to-spee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tionary fe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Pixie (Imagination Suite)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1" name="Picture 4" descr="sdfkjsdkjfskdj"/>
          <p:cNvPicPr/>
          <p:nvPr/>
        </p:nvPicPr>
        <p:blipFill>
          <a:blip r:embed="rId1"/>
          <a:stretch/>
        </p:blipFill>
        <p:spPr>
          <a:xfrm>
            <a:off x="533520" y="125748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35:04Z</dcterms:created>
  <dc:creator>fcps</dc:creator>
  <dc:description/>
  <dc:language>en-US</dc:language>
  <cp:lastModifiedBy>Journell-Hoch,Cindy D</cp:lastModifiedBy>
  <dcterms:modified xsi:type="dcterms:W3CDTF">2012-04-25T18:55:17Z</dcterms:modified>
  <cp:revision>10</cp:revision>
  <dc:subject/>
  <dc:title>New Software! Oh, my!</dc:title>
</cp:coreProperties>
</file>